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7A6-D1E8-40F0-A183-DFCCFAC0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C7F-C2CF-40C7-A69B-44D46EF1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49B3-7493-4F62-AAC6-8BABCE6A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99C-C542-4540-815A-F4979D78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5E5-F79C-4D87-8E04-D55A1CD9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C7E-930A-418F-AECF-1C5AB18A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91C-1353-4C75-9DC4-7D4FDAD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603-923B-4BD7-B90C-A302558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D34-3033-4D22-8CE7-453177CD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20D-5C2F-4374-ABA5-CA32A03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3DE-39B3-4825-A6A0-5309133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C19-3B3F-45C1-A698-D831823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3AE5-93EB-48D0-A195-34900F04E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Torquemada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The Church and Societ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 Late Middle 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00160" y="18288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3419640" cy="256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86520" y="289548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The Church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7162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0-1150 strongest religious p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monasteries and convents were made/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religious orders started to pop up.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n were called friars: latin for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holicism was still #1 in W. Europe, On Sundays people went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munion was tak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bread an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ayed to Saints, who were in the presence of God. Named churches after them and touched re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The Church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391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Inquisition: The Church fearful of people not believing in them. Pursued heretics on charges of here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ursued Jews as well for beliefs and banking (interest=s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rea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ti-semi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live places and have jobs Christians didn’t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ociety and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m in art/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ith wealth  paid for large cathedrals to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omanesque: church that is square w/ rounded d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othic: has ribbed vaults &amp; pointed 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ogna, Italy; Paris, France; Oxford, England (1231) had the first universities. Trained scholars; tested orally, could earn a specific degree lik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/ more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i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re also around the they trained crafts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omas Aquinas greatest Scholasticis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Aristotle's teachings of reason, said “natural law gave people righ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ernacular = everyday language, which was Latin &amp; other languages. Wrote troubadour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50292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Late 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plague took Europe in late 1200’s-1300’s. Killed roughly 32 million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urope’s Ec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100 years War 1337-14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French vs. English over Normandy.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ward 3, Henry V, &amp; Char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English Archers at Cr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Joan, was a peasant &amp; honest, Orl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Results in civil war called “War of Roses” in England. Henry Tudor becomes Henry the V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1600200"/>
            <a:ext cx="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343040" y="36576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781680" y="4114800"/>
            <a:ext cx="7632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pain and Portu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uslims held the Iberian peninsula, Spain and Portu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Alhamb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ade schools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ristians started the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Reconqu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ristians made three kingdoms: Portugal, Castile, &amp; A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4546440"/>
            <a:ext cx="4724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762120"/>
            <a:ext cx="1905120" cy="2543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Spain and Portu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496 Princess Isabella of Castile and Prince Ferdinand of Aragon ma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anted Spain to be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anish Inquisition. Thousands tortured and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xodus of J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0 year conquest forced Muslims to N.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29200" y="2970360"/>
            <a:ext cx="411480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791320" y="457200"/>
            <a:ext cx="33526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5:27:20Z</dcterms:created>
  <dc:creator>jobert</dc:creator>
  <dc:description/>
  <dc:language>en-US</dc:language>
  <cp:lastModifiedBy>jobert</cp:lastModifiedBy>
  <dcterms:modified xsi:type="dcterms:W3CDTF">2012-04-25T15:04:36Z</dcterms:modified>
  <cp:revision>4</cp:revision>
  <dc:subject/>
  <dc:title>The Church and Society  &amp;  Late Middle Ages</dc:title>
</cp:coreProperties>
</file>